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455B-554B-4EE3-9584-56732046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plann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record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analyz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interpret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financial information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unting 1 is primarily the “planning and recording” , accounting 2 adds more analyzing and interpre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A6D-A57F-48DF-931C-B11ABF32B3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wrong answers here—can make a case that all jobs require some account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EBBD-3653-4CC4-8C91-0F854FC6AE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75DA-B075-4CF9-931E-2E77CE63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8C75-8062-4DD2-ACA6-A1FDDF91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368A-A5C6-4948-B61A-79F8A1F4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AB8C-3954-44D6-B79D-92995EFF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E238-8D05-49AE-8E3D-09A599E1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89B0-252F-497B-A75F-1D671657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B5EE-71D3-422A-B828-83FEEEAD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12DD-9C8A-4292-A954-DC39C218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E716-2438-40C1-A3B9-3335656B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AF89-407F-4ADF-869E-1377A027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9123-BC2C-4009-8372-A20E42C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DDE8-1F1A-4153-9F30-FF2E92AE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B3C-4706-45A7-B414-2C99513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B5E3-89CC-4856-ABA4-67DC1711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E37B-0904-4290-9673-391DAB13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A8B-C447-4205-B018-D628F72A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9FF0-BB7D-4902-805C-B27BFB0D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3496-B5B5-4B17-8485-A669EA96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8DF9-6975-45A1-981B-72C99283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EB72-88F3-4A18-844D-1C713BF2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0A69-C725-4810-BCB4-82ABDFF4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D784-0375-4267-8551-93AF5C9B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F1F2-F2D8-4F78-A9D5-B193E6B6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8A42-D88D-4C04-9B6A-6CECD4F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95F1-CB29-49D3-A432-1F6C4E4F90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7C8A-87E9-4E2B-B151-57C0DD74CA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ccounting 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r. Schnei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rpschneider.wikispaces.c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is Accounting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nning, recording, analyzing and interpreting of financial information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: Ross, Gilbertson, Lehman &amp; Han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y do we have Accounting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Disclo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 allocation dec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reers in Account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into groups of two and brainstorm all the types of jobs that you think incorporate accou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ree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ting Firm-makes sure other companies are following the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rance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facturing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 your ow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ing Dept. of various compa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is an Asset, Liability, Owner’s Equity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wn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ch can produce future economic bene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hing that i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w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nother pa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’s 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wner’s investment in the busi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xamples of Asset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list as many assets as you ca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both household and business ass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counting Equ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ts  = Liabilities + Owner’s 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’s Equity = Assets – Li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abilities = Assets - Owner’s 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xamp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sset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$30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otal Liabilitie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$18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wner’s Equity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$12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23:11:26Z</dcterms:created>
  <dc:creator>Laura Roblee</dc:creator>
  <dc:description/>
  <dc:language>en-US</dc:language>
  <cp:lastModifiedBy>Phil Schneider</cp:lastModifiedBy>
  <dcterms:modified xsi:type="dcterms:W3CDTF">2012-08-29T01:12:41Z</dcterms:modified>
  <cp:revision>15</cp:revision>
  <dc:subject/>
  <dc:title>Accounting I</dc:title>
</cp:coreProperties>
</file>